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jpeg" ContentType="image/jpeg"/>
  <Override PartName="/ppt/media/image4.png" ContentType="image/pn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52000" y="684360"/>
            <a:ext cx="45579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91440DEB-6223-47CB-AFF2-8DD677D7D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duce short term extinction ri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Supplementation may be used to reduce the risk that a population on the verge of extirpation will be lost by expeditiously boosting the number of emigrating juveniles in a given brood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eserve population while factors for decline are being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Supplementation may be used to preserve or increase summer chum salmon populations while other factors causing decreased abundances are add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ed recover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pplementation may be used to accelerate recovery of populations by increasing abundances in a shorter time frame than may be achievable through natura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tablish a reserve population for use if the natural population suffers a catastrophic los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pplementation programs may be used to create an additional reservoir for a particular summer chum genome to prevent loss of the entire population due to natural or anthropogenic catastrop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eed vacant habitat capable of supporting salm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mmer chum salmon may be reintroduced to streams where populations have been extirpated and the causes of extirpation are being add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 scientific information regarding the use of supplementation in conserving natural population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Valuable information indicating the effectiveness and effects of supplementation in recovering summer chum salmon can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FD44-2080-463F-BA00-7B431837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2B5-BE0F-4057-A70E-2A17A39C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8F5-7A5F-4FBA-9F1D-EE5FF3E1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A09-2106-4126-A3DA-60D48664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6C2C1-609E-467F-A859-C5409BAE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5005B-2E2A-49A3-9052-B603048D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C8FE8-F6AC-4102-8C8F-4DA5CDE0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1728B-1F16-4A49-8665-21CE7E82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453C7-AA23-4DF7-9D5E-F1DCAF75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5E317-271B-4877-8940-43BD6823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D9792-5A74-481B-9FC7-40B2DA24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79E-78E0-4B2B-9FF8-3702CD02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10BA7-FE0F-4C55-B4BA-C73ACF80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83874-A0EB-4530-BC27-5C784115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1A50A-D682-40C1-8F5E-A192438C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CBC90-B4E1-47D9-9120-7265CEA9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5A3C7-C06B-4EC2-AC4E-F51A9519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488-601E-4885-8D2C-8891BEE1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A49-3972-460C-9718-50E55E55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874-B6AC-4367-B135-2C80512D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846-97DC-45BF-A532-1F70EFAE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B9D-DB0C-48F5-A80E-26C75197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9F1-0DB6-45F3-8F41-5F356957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4DD-3A5D-4ED1-89DC-6CB6B1C8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9F53-3D66-4D01-92BD-EFA2A2E4B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8B98-A3DF-4178-BED6-C40EEF1A7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a.gov/wdfw/fish/chum/chum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ddressing the Potential Effec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 Hatchery Interaction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 the ESA-listed Species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od Canal (Washington) Summer Chum Salm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09880"/>
            <a:ext cx="6782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 Tyn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AA Fisher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ris Well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int No Point Treaty Counc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om H. Johns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shington Department of Fish and Wild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685800" cy="668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705720" y="5486400"/>
            <a:ext cx="682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sk Ratings for Competition and Behavioral Modifi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Ris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no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rt of a formal recovery program, unable to remove &gt;90% of returning hatchery chinook, coho, fall chum or pink spawners (i.e., risk of redd super-imposition and/or competi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fed or fed fall chum or pink fry released before Apr.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i.e., overlaps with natural outmigration tim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ease timing of hatchery fish is unkn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ATE Ris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ll chinook released from marine area netpens (i.e., potential straying of spawners into summer chum strea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Aversion Measu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Fish Disease Trans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pply protoco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Pacific Northwest Fish Health Protection Committee (PNFHPC 1989) and Salmonid Disease Control Policy of the Fisheries Co-managers of Washington State (NWIFC and WDFW 1998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spect prior to relea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ll hatchery production by WDFW or USFWS fish pathologists to certify their disease status and health cond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066680"/>
            <a:ext cx="83818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aversion and m&amp;e measures were specified for each hatchery program and implemented beginning in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st programs were rated Low risk for all categor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grams with High or Moderate risks implemented common measur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ed release of fall chum or pink fry until after April 1st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o reduce risks of predator attraction or competition for food, or changes in feeding behavior or use of preferred migration areas by summer chum f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ntinued programs releasing hatchery-origin chinook or fall chum in summer chum streams, unless part of a formal recovery program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o reduce risk of competition, redd super-imposition and behavior modification with summer chum ad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follow fish health protocols and reporting requirements; 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pplied to several volunteer/coop pro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sk assessment process and implementation have generally been success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hatchery programs have been terminated in response to concern about hatchery inter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d changes have been done with limited effect on day-to-day hatchery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complications with loadings and pond mgt, but all do-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minated programs eased up other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volunteer coop projects are now consistent with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tchery interactions measures have been incorporated in hatchery ESA 4(d) rule issued by NOAA Fishe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ottom 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isks to summer chum are reduc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ESA listings and concerns for recovery of wild popl’ns, there is increasing focus on potential interactions b/w hatchery and wild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and Tribal Co-managers in Washington decided to 1) identify potential negative impacts of hatcheries on ESA-listed summer chum salmon and 2) identify mitigative measures to minimize any risks to summer ch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describe here the approach used and report on initial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1999, ESA listing of Hood Canal summer chum salmon Evolutionarily Sig. Unit (ES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pril 2000, Co-managers completed the “Summer Chum Salmon Conservation Initiative, An Implementation Plan to Recover Summer Chum in the Hood Canal and Strait of Juan de Fuca Reg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wa.gov/wdfw/fish/chum/chum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02, ESA 4(d) rule requirements incorporated the hatchery conservation measures identified in the SCSCI (i.e., Resource Mgt Plan – RM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98600" y="152280"/>
            <a:ext cx="5275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kground (cont.)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of hatcheries is long-standing and important in the Hood Canal region with WDFW, Tribal, and USFWS facilities, and cooperative projects by volunteer fish enhancement group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chery objectives include providing surplus fish for harvest, mitigation for fish production losses due to habitat degradation, and wild salmonid stock reco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r chinook, coho, chum, and pink salmon and steelhead; trout also, but not discussed 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91600"/>
            <a:ext cx="8915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sessing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otential Risk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of Hatchery Activities on Summer Ch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laid summer chum life history with release/migration timing of hatchery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rect imp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physical operation of hatcher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cological imp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interactions b/w hatchery fish and summer chum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predation, competition/behavior modification, fish disease transf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85800" y="380880"/>
          <a:ext cx="7924680" cy="647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880"/>
                    <a:ext cx="792468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l Approa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762120"/>
            <a:ext cx="8382240" cy="70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ratings for each risk categor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appropriate risk aversion (r.a.) measures for each risk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monitoring/evaluation (m&amp;e) measures to help make sure the risk aversion measures were implemented successfu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, rated risks of each hatchery program and identified the r.a. and m&amp;e measures needed to reduce any moderate or high risk to a low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sk Rating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Hatchery Operation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GH risk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odstock trap on summer chum strea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ot checked 2X a day or hold chum for &gt;24 hrs or not handled prope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intakes/outlets are not screen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withdrawal reduces flows w/ negative impact on summer chum str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f compliance with NPDES perm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1:12:48Z</dcterms:created>
  <dc:creator>TynanT</dc:creator>
  <dc:description/>
  <dc:language>en-US</dc:language>
  <cp:lastModifiedBy>Bob Smith</cp:lastModifiedBy>
  <dcterms:modified xsi:type="dcterms:W3CDTF">2004-03-19T17:19:24Z</dcterms:modified>
  <cp:revision>160</cp:revision>
  <dc:subject/>
  <dc:title>Supplementation Standards for Rebuilding Hood Canal Summer Chum Populations</dc:title>
</cp:coreProperties>
</file>