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move the slide</a:t>
            </a:r>
            <a:endParaRPr b="0" lang="en-US" sz="4800" spc="-1" strike="noStrike">
              <a:solidFill>
                <a:srgbClr val="cce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95B6-6D37-4ED2-9259-4B2EE729D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ngered Species act recognizes artificial propagation as one conservation measure that may be utilized to aid recovery of list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has been used for a number of avian and mammalian species such as California condors, peregrine falcons and blackfooted ferrets with variabl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for recovery of anadromous salmonids that are listed under the ESA is a fairly new development.  Several captive rearing projects were started in the Pacific northwest in the mid-1990s as emergency rescue measures for salmon populations that had declined to critic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us biological types knew exactly what we were doing and where our priorities lay, it was not clear to the policy and funding level decision-makers that there was a logical decision process or scientific basis for the new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standards to judge captive propagation projects and set funding priorities led the Hatcheries and inland fisheries Branch(who are engaged in ESA permits for these activities) and the NW Fisheries Science Center (who are engaged in developing and implementing projects) to develop these standar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reviewing the decision standards outlined above, the managers conclude that captive propagation is the appropriate strategy for recovery, we apply operational standards to shape the design of proj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odstock selection and Spawning protocols should generally be designed to operate the captive population as an “ideal” population including:  balanced sex ratios, equal opportunity for every fish to contribute, equal family size, enough individuals to represent the full spectrum of genetic material, and random mating,  (Kapuscinski and Jacobson 198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 fish health and fish culture guidelines such as the AFS or IHO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fish to match wild fish in behavior and survival characteristics natural rearing systems are ad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ish to be reared long-term in captivity, facilities and protocols need to provide safety and avoid catastrophic loss in the culture facilities as well as fish health and consideration of the goals for these fis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strategy is a pivotal element in a recovery attempt based on captive rearing.  Release timing should be based on the behavior of any remaining natural fish or on knowledge of the life history characteristics of the stock when it was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ring and release protocols should be designed with the goal of returning a successful fish to the natural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is successful in returning adults to spawn naturally a plan to reduce hatchery intervention should be in place.  Marking program fish to assist in evaluation is also important for eliminating outside influen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program may produce more gametes or fish than are necessary at some stage. The fish and gametes will be listed, probably endangered, and there may be legal and social reasons not to lethally dispose of excess.  In developing plans and permits, off-ramps for contingecies like excess eggs or fry or higher-than predicted adult returns should be in pl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nimums . . .  M&amp;E is essential to guide decisions about the project and also to answer the uncertainties in the benefit;risk analys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Fisheries has developed and promoted the use of HGMPs to clearly describe artificial propagation programs.  Applied to Captive propagation projects, the HGMP displays how the decision standards and operating guidelines are employ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lash-back to one of the first slides, the benefit:risk analysis is used to display that the benefits of intervention are greater than the risks of either intervening or not inter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risk of doing something greater than the risk of doing not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two purposes in mind as we developed thes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o display the decision process that would lead to proposing a captive propagation project and establish scientific standards, to help with prioritizing and funding decisions and to help project proponents understand the basis on which their projects might be judg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provide a framework for the systematic development and evaluation of captive propagation measures to deal with the uncertainties and risks that are inherent in artificial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ities can be applied early in the captive propagation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l alternatives should be considered before selecting captive propagation, and proponents of captive projects should understand that it is an emergenc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can help increase the number of a listed species, but cannot alone lead to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of any artificial propagation program has uncertainties as far as establishing long-term, self-sustaining natural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may be a temporary fix to the short term issue of preventing extinction, but the other factors that initially led to the decline of the population must also be addressed for recovery to occu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evel of screening criteria are related to defining the status and importance of the population, the scale and duration of the project, and performance standards to measure the success or failure of the project in meeting clearly established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population has been identified and described and meets the standard definition of “ a group of fish that is substantially reproductively separated other fish of the same species that spawn at some other site or the same site at some other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iological uniqueness is the most important criteria for valuing a population, but some program sponsors may also be seeking recovery for high or unique economic, social or cultural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and duration of proposed interventions is consid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and establishing performance indicators to determine how successful the program 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proponents should establish the trigger points for terminating or changing the captive propagation program before it is actually placed i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89AA6-D5DC-434C-A18C-CE7D8381A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68BAB-D80B-4D27-9CE7-D7844565F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FF003-8044-422F-954C-17B932172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B141A-968F-4006-A70F-5663444C5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FEB4DD-9C24-40F3-80E2-5EC352CB8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BC65E-1BD4-40E8-84F2-5C18F62E2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BBF26-414B-4F03-9849-2261B65C6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F5E25-21D8-46DB-A636-F6E33977C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F1F5D-58A4-44DA-A790-4527F175A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FFE8B-B697-49E3-9131-65EF4B7D6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B0E42-A03C-43F1-949B-535AAAA4E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A732-F70A-4662-A47E-737D2E628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CB6B0-D905-46FB-8B57-1E8CC62FF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87F8E-6BB1-4546-AB8C-BF285E47C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54E2F-A1C2-47E6-8F33-105997868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1225B-43E0-496A-A92E-C1DC43C58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73498-F0A1-47FC-8854-C027B29B0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2411B-E357-4587-BDE1-1DFEA1BEA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A2AAC-49DD-4F0D-8AD0-3B9FADCD8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94E5B-94ED-4710-92B6-718EE1B47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E1443-4B71-4649-A7C2-CF9EA333E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72142-70CB-4D06-A39A-40AAF4D25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83937-35CE-4A01-8CEA-E887FE72F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2F4D-E583-4FBD-B7EE-CEA40F608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E307-B4EF-42EE-B930-2FEFB9B6D6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93A8-3A1F-4275-B393-9174CBFD8B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Guidelines for Use of Captive Broodstocks in Recovery Efforts for Pacific Salmon</a:t>
            </a:r>
            <a:endParaRPr b="0" lang="en-US" sz="4800" spc="-1" strike="noStrike">
              <a:solidFill>
                <a:srgbClr val="ccecff"/>
              </a:solidFill>
              <a:latin typeface="Arial"/>
            </a:endParaRPr>
          </a:p>
        </p:txBody>
      </p:sp>
      <p:sp>
        <p:nvSpPr>
          <p:cNvPr id="170" name="PlaceHolder 2"/>
          <p:cNvSpPr>
            <a:spLocks noGrp="1"/>
          </p:cNvSpPr>
          <p:nvPr>
            <p:ph type="subTitle"/>
          </p:nvPr>
        </p:nvSpPr>
        <p:spPr>
          <a:xfrm>
            <a:off x="456840" y="3657600"/>
            <a:ext cx="8001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b Pollard, NOAA fisheries NW Region, Hatcheries and Inland Fisheries Branch</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Flagg, NW Fisheries Science Center Manchester Marine Laboratory</a:t>
            </a:r>
            <a:endParaRPr b="0" lang="en-US" sz="2800" spc="-1" strike="noStrike">
              <a:solidFill>
                <a:srgbClr val="ffffff"/>
              </a:solidFill>
              <a:latin typeface="Arial"/>
            </a:endParaRPr>
          </a:p>
        </p:txBody>
      </p:sp>
      <p:sp>
        <p:nvSpPr>
          <p:cNvPr id="171" name=""/>
          <p:cNvSpPr/>
          <p:nvPr/>
        </p:nvSpPr>
        <p:spPr>
          <a:xfrm>
            <a:off x="533520" y="6019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1"/>
          <a:stretch/>
        </p:blipFill>
        <p:spPr>
          <a:xfrm>
            <a:off x="0" y="5384880"/>
            <a:ext cx="887724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for Captive Propagation Project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od stock coll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ing protoc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ring protoco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juven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returning adult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isposition of fish</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Brood Stock Collection</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ll remaining individuals of wild population into brood stock, 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broodstock selection protocol to ensure that all life history and genetic variability is represen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al infusion of wild fish into successive year classes to avoid domestication and artificial se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a:t>
            </a:r>
            <a:br>
              <a:rPr sz="4000"/>
            </a:br>
            <a:r>
              <a:rPr b="0" lang="en-US" sz="4000" spc="-1" strike="noStrike">
                <a:solidFill>
                  <a:srgbClr val="ccecff"/>
                </a:solidFill>
                <a:latin typeface="Arial"/>
              </a:rPr>
              <a:t>Spawning Protocols</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 all available adul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rieve all possible eggs from mature fema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pawning protocols to maximize effective population s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ial or single pair ma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opreserved sp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spaw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aring Protocol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udent fish culture practices</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wild rearing conditions for fish to be released into the wil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sh to be reared to maturity in captivit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 fish among two or more facilit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 and predator-free water suppl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r smolts to be adaptable for seawater rear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eawater facilities from catastrophic los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ize contribution of all parents to the next genera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lease Protocol</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fish at a life stage where probability of survival is greates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limate fish to locations where they are intended to retur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releases with wild fish at same life stage or maturit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rse release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tress caused by handling</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egative interactions with other spe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anagement of Returning Adult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ogram meets all other criteria, there would be no general restriction on the proportion of hatchery-origin fish on the spawning grounds for the first three gener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SU hatchery fish should not exceed natural straying levels or 1% if natural straying levels are unkn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Other Disposition of Fish</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aptive propagation programs produce more fish than are needed for future broodstock or release, the extra fish will be disposed of in a manner that is agreeable to co-managers and consistent with permit restri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biologically sound and socially acceptable off ramps in ad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onitoring and Evaluation</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in captive propagation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t life history stages to adulthoo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ability of gametes produced in cap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morphology and reproductive succes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released to the wild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nd migration su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return to natal 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successfully reprodu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velopment of an Operating Plan</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Hatchery and Genetic Management Plan” (HGMP) template from NMFS-NWR web site to clearly defin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scope and goal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stocks and watershed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standards and indicators for risks and benefit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s on listed species and other management objective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 and operating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efit : Risk Analysis</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bundance of target popul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genetic heritage, avoid extinc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listed population to native habitat</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effects including inbreeding, loss of variability, accumulation of mut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 risks including domestication and catastrophic loss in hatche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risks including predation, competition, diseas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rpose</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y the decision process and scientific standard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framework for systematic development and evaluation of effective captive propagation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3059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Thank you…</a:t>
            </a:r>
            <a:br>
              <a:rPr sz="7200"/>
            </a:br>
            <a:endParaRPr b="0" lang="en-US" sz="7200" spc="-1" strike="noStrike">
              <a:solidFill>
                <a:srgbClr val="ccecff"/>
              </a:solidFill>
              <a:latin typeface="Arial"/>
            </a:endParaRPr>
          </a:p>
        </p:txBody>
      </p:sp>
      <p:sp>
        <p:nvSpPr>
          <p:cNvPr id="210" name="PlaceHolder 2"/>
          <p:cNvSpPr>
            <a:spLocks noGrp="1"/>
          </p:cNvSpPr>
          <p:nvPr>
            <p:ph/>
          </p:nvPr>
        </p:nvSpPr>
        <p:spPr>
          <a:xfrm>
            <a:off x="533160" y="2362320"/>
            <a:ext cx="8001000" cy="838080"/>
          </a:xfrm>
          <a:prstGeom prst="rect">
            <a:avLst/>
          </a:prstGeom>
          <a:noFill/>
          <a:ln w="0">
            <a:noFill/>
          </a:ln>
        </p:spPr>
        <p:txBody>
          <a:bodyPr lIns="90000" rIns="90000" tIns="46800" bIns="46800" anchor="t">
            <a:normAutofit/>
          </a:bodyPr>
          <a:p>
            <a:pPr lvl="4" marL="2057400" indent="-228600">
              <a:spcBef>
                <a:spcPts val="1001"/>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y Questions?</a:t>
            </a:r>
            <a:endParaRPr b="0" lang="en-US" sz="4000" spc="-1" strike="noStrike">
              <a:solidFill>
                <a:srgbClr val="ffffff"/>
              </a:solidFill>
              <a:latin typeface="Arial"/>
            </a:endParaRPr>
          </a:p>
        </p:txBody>
      </p:sp>
      <p:sp>
        <p:nvSpPr>
          <p:cNvPr id="211" name=""/>
          <p:cNvSpPr/>
          <p:nvPr/>
        </p:nvSpPr>
        <p:spPr>
          <a:xfrm>
            <a:off x="1219320" y="3809880"/>
            <a:ext cx="6858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b Pollard, NOAA fisheries NW Region, Hatcheries and Inland Fisheries Bran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Flagg, NW Fisheries Science Center Manchester Marine Laborato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219320" y="5257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2514600" y="5486400"/>
            <a:ext cx="403848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tive propagation is:</a:t>
            </a:r>
            <a:endParaRPr b="0" lang="en-US" sz="4400" spc="-1" strike="noStrike">
              <a:solidFill>
                <a:srgbClr val="ccecff"/>
              </a:solidFill>
              <a:latin typeface="Arial"/>
            </a:endParaRPr>
          </a:p>
        </p:txBody>
      </p:sp>
      <p:sp>
        <p:nvSpPr>
          <p:cNvPr id="1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ppropriate if the risk of extinction is greater than the risks of interven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rely, if ever, a complete recovery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ven for long-term rebuilding of naturally spawning popul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erimental and temporary conservation measure in the context of an overall recovery strate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Standard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stat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popu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Proje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and Performance standar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du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Population Status</a:t>
            </a:r>
            <a:endParaRPr b="0" lang="en-US" sz="4000" spc="-1" strike="noStrike">
              <a:solidFill>
                <a:srgbClr val="ccecff"/>
              </a:solidFill>
              <a:latin typeface="Arial"/>
            </a:endParaRPr>
          </a:p>
        </p:txBody>
      </p:sp>
      <p:sp>
        <p:nvSpPr>
          <p:cNvPr id="180"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at a high risk of extinc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abundance (&lt; 50 fish per year)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bundance and declining,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natural production predicted for at least one gener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of very low abundance relative to available habitat and short term supplementation is deemed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Importance of Population</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genetic qua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adaptations to specific habita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ikelihood of successful natural recolonization in the event of extinc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otential productivity, or unique social, economic or cultural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Scale of Project</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on based on number of fish nee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extinction of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genetic and life history var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enetic change in cap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 fish in the wi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should be short (one to three gen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Measures of Success</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 programs wi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ly reduce risk of extin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minimal genetic change from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e fish that are phenotypically similar to wild f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number of fish reproducing successfully in the wi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Changing or Terminating the Progra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of immediate extinction lesse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 into reliance on natural spawn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uccess toward recovery in three gener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gress on correcting factors for dec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genetic or phenotypic effects of captive propa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6:39:52Z</dcterms:created>
  <dc:creator>pollardh</dc:creator>
  <dc:description/>
  <dc:language>en-US</dc:language>
  <cp:lastModifiedBy>pollardh</cp:lastModifiedBy>
  <dcterms:modified xsi:type="dcterms:W3CDTF">2003-04-11T16:26:33Z</dcterms:modified>
  <cp:revision>7</cp:revision>
  <dc:subject/>
  <dc:title>Guidelines for Use of Captive Broodstocks in Recovery Efforts for Pacific Salmon</dc:title>
</cp:coreProperties>
</file>